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B3B-9061-44B6-8A4D-E13687D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4BC-944B-424E-81EB-22CDF6D6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1C8-D32D-4FB6-9803-525E6213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B0A-3FDC-4C2E-BA4B-6E2C2282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7B59-9DBD-4CFD-937A-DA844D93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ADC7-0B1A-43C7-ACD5-2875C5C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0330-5C44-4207-8029-B1DA2825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86F8-1ED6-4742-82E4-8BEDDBB9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F3A6-A8D3-4975-8F77-DCC43B5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3DD0-186E-4904-AA41-D6CA935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5857-C323-49AF-974E-D4785A1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313-EE8C-4D21-8563-CEF08DF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D865-CADD-4083-8309-EC9D4A9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BBC-FE81-41FE-87F9-722F2E50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620E-30AC-4A1F-9738-32FA52F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55A1-A903-4CDF-9505-5EE89414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E161-EBF8-4A30-8606-B64BDD65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745-B66A-4C1F-B1B8-0718A4A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4C4-318B-4421-97B8-8B02064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D3A-280C-4A5C-B5ED-AE23A8CB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3BD-5736-4E17-93D0-2FEA09FA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EE7-ED63-497E-AED4-53AA125B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4AE-D45D-44B1-BEF4-A4F5334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1D7-F7EC-451D-9F16-0EB9E86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CE9C-8108-455B-B02F-61BCAD01CB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404-5484-42E7-BA58-A0F3EA6445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alk Isn’t Cheap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Businesses Like Yours It Can Be VERY Expens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33920" y="2666880"/>
            <a:ext cx="2209680" cy="1752840"/>
          </a:xfrm>
          <a:prstGeom prst="wedgeRoundRectCallout">
            <a:avLst>
              <a:gd name="adj1" fmla="val -51796"/>
              <a:gd name="adj2" fmla="val 8070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2743200"/>
            <a:ext cx="1676160" cy="1752480"/>
          </a:xfrm>
          <a:prstGeom prst="wedgeEllipseCallout">
            <a:avLst>
              <a:gd name="adj1" fmla="val 31342"/>
              <a:gd name="adj2" fmla="val 635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743200"/>
            <a:ext cx="2133720" cy="1981080"/>
          </a:xfrm>
          <a:prstGeom prst="cloudCallout">
            <a:avLst>
              <a:gd name="adj1" fmla="val -46430"/>
              <a:gd name="adj2" fmla="val 508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124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c0000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8c0000"/>
                </a:solidFill>
                <a:latin typeface="Tahoma"/>
              </a:rPr>
              <a:t>Overpriced – not worth the money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8954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8c0000"/>
                </a:solidFill>
                <a:latin typeface="Tahoma"/>
              </a:rPr>
              <a:t>Food was cold server ignored us…we will not be returning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0481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Sylfaen"/>
              </a:rPr>
              <a:t>“</a:t>
            </a:r>
            <a:r>
              <a:rPr b="0" lang="en-US" sz="1800" spc="-1" strike="noStrike">
                <a:solidFill>
                  <a:srgbClr val="8c0000"/>
                </a:solidFill>
                <a:latin typeface="Sylfaen"/>
              </a:rPr>
              <a:t>Front desk was rude. Room was dirty. Paper thin walls – just a nightmare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mprovement Strate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2133360"/>
            <a:ext cx="701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ntify Current Proble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mmediate Short Term 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d &amp; Long Term 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going Monitor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nhance Online Status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904760" y="1904760"/>
            <a:ext cx="6095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 Your 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Review 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In Social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list Help Of Best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ncourage Fan Bas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99840" y="2437920"/>
            <a:ext cx="6705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est Their Help/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hem With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 &amp; Incentivize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Ongoing Contact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Overall S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6172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 Analysis &amp; Re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diate Action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Credibility Impr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 Engagement In-st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fied Messa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going Monito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Desired Resul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sitive Online Image That Drives Sales And Profits Every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86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Results Like These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l Media Reach Incre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Customers Exposed to B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xisting Customer Vis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er Customer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ter Handling Of Compl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Value Price Packag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590560" y="167652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Online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 Online Repai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/Update Social 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g &amp; Content 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-store Comment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going Monito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r Fee $995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al New Client Price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$6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18288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etting Started Is Easy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76520" y="16765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Contact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ption Of Your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resses Of Your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resses Of Relevant Reviews &amp;   Media 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le Images, Photos &amp; Lo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ake The Next Step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48120" y="1828800"/>
            <a:ext cx="4419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ltan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ne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site Address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2278080"/>
            <a:ext cx="2057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 Potential Customers/Client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earn About You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7920" y="236196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h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lp &amp; Similar Re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ebook &amp; Social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ocial Proof Is King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pective clients search for Reviews, Comments, Questions, History, Fans, Prices, Coupons, Competitors, Lawsuits, And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Social Proof Comes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4008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formation About Your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usiness Comes In 2 Forms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133720" y="28195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 You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 You Don’t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Goal Must Be To Control The Narrativ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ositive Message Must Be Stronger, More Frequent And More Credible Than Any Negative Mess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gative Reviews Hur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Will Never Know All The Damage Done As Potential Customers Avoid You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ithout Ever Telling Yo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alling Sales May Indicate Bad Online Reput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Sales When Others Are Doing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wer Return Visi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In-Store Compl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You Need A “Preponderance Of Positive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52480" y="26665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to 1 Positive to Negative (minimu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cy In Mes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 Internet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43200" y="6048360"/>
            <a:ext cx="37908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5:08:29Z</dcterms:created>
  <dc:creator>Bruce</dc:creator>
  <dc:description/>
  <dc:language>en-US</dc:language>
  <cp:lastModifiedBy>Bruce</cp:lastModifiedBy>
  <dcterms:modified xsi:type="dcterms:W3CDTF">2015-04-27T18:11:14Z</dcterms:modified>
  <cp:revision>52</cp:revision>
  <dc:subject/>
  <dc:title>Slide 1</dc:title>
</cp:coreProperties>
</file>