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5D90-E0AC-4B53-AE16-065BF510E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85D8-C360-4980-AE33-759426718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819B-CF84-44CA-94F6-04900895B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B55D-1BFB-42CB-8958-19053B672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2004-BCD4-4BE6-82C8-FA3363CD0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AD8B-85FB-4E09-B1EF-8BC1F1612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D1D6-7406-4C8B-8147-92D080FCF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64E8-2783-474E-BE28-1050133E9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97F9-8264-4295-97CE-7F058E2F9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1234-3995-43E2-A343-AC4D0F4B5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8F01-035A-44B0-9DB3-8AFC576F5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92FF-4146-4815-9F7F-2EDAFF432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6B7A9-F856-4A0B-81BD-E6278F4D6B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7760" y="1295280"/>
            <a:ext cx="5715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8080"/>
                </a:solidFill>
                <a:latin typeface="Arial"/>
              </a:rPr>
              <a:t>Why ‘Old Media’ </a:t>
            </a:r>
            <a:br>
              <a:rPr sz="4000"/>
            </a:br>
            <a:r>
              <a:rPr b="1" lang="en-US" sz="4000" spc="-1" strike="noStrike" u="sng">
                <a:solidFill>
                  <a:srgbClr val="808080"/>
                </a:solidFill>
                <a:uFillTx/>
                <a:latin typeface="Arial"/>
              </a:rPr>
              <a:t>Doesn’t</a:t>
            </a:r>
            <a:r>
              <a:rPr b="1" lang="en-US" sz="4000" spc="-1" strike="noStrike">
                <a:solidFill>
                  <a:srgbClr val="808080"/>
                </a:solidFill>
                <a:latin typeface="Arial"/>
              </a:rPr>
              <a:t> Wor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33720" y="38862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Newspapers, Yellow Pages, Magazines Are Dy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66680" y="48006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95280" y="53352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Restaurant Advertising No Longer Effecti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600200" y="1066680"/>
            <a:ext cx="1920960" cy="26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Here’s The Takea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restaurant can create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ustain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long term competitive advantage via mobile marketing, resulting in accelerated business revenu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your name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66680" y="4938840"/>
            <a:ext cx="1919520" cy="19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Arial"/>
              </a:rPr>
              <a:t>The 3 Key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66680" y="4938840"/>
            <a:ext cx="1919520" cy="19191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286000" y="1295280"/>
            <a:ext cx="4876920" cy="37324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191120" y="2286000"/>
            <a:ext cx="1447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Why Mis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769644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you miss the single greatest advertising media since TV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Soon most competitors will use Mobile Marketing and S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a Participant – Not a Specta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066680" y="4938840"/>
            <a:ext cx="1919520" cy="19191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371600" y="228600"/>
            <a:ext cx="10764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Mobile Sales Sol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86200" y="1599840"/>
            <a:ext cx="4038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S Mark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bile Web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371600" y="3352680"/>
            <a:ext cx="19242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371600" y="1676520"/>
            <a:ext cx="1924200" cy="12952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1143000" y="4938840"/>
            <a:ext cx="1919160" cy="1919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886200" y="3124080"/>
            <a:ext cx="4495680" cy="40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Customer    ..Relation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l tables/build check ...size, positive revi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More Revenue Is You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19720" y="1752120"/>
            <a:ext cx="403848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ill the ga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 Mobile Mark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in market sh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di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pro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3085920" cy="29620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066680" y="4938840"/>
            <a:ext cx="1919520" cy="19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143000" y="2286000"/>
            <a:ext cx="7238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e a phone appoint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e an in-person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e a mobile website cons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e an SMS Promo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981080" y="304920"/>
            <a:ext cx="5295960" cy="14097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143000" y="4938840"/>
            <a:ext cx="1919160" cy="19191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276720" y="5410080"/>
            <a:ext cx="5181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nam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bile Marketing Specialist/Restaur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Circulation Is Collapsin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066680" y="4938840"/>
            <a:ext cx="1919520" cy="19191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514600" y="1371600"/>
            <a:ext cx="3733920" cy="3595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724280" y="2743200"/>
            <a:ext cx="1752840" cy="7621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Yellow Pages: </a:t>
            </a:r>
            <a:br>
              <a:rPr sz="4000"/>
            </a:b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The ‘Rotary Phones’ Of Advertis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066680" y="4938840"/>
            <a:ext cx="1919520" cy="19191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495680" y="2743200"/>
            <a:ext cx="2743200" cy="16081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1981080" y="2438280"/>
            <a:ext cx="2438640" cy="19414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971800" y="487692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 referred to every day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Magazines Squeeze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41911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er Circulation – Less Time To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066680" y="4938840"/>
            <a:ext cx="1919520" cy="19191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819520" y="1371600"/>
            <a:ext cx="3722400" cy="24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TV, Radio Et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91120" y="1828440"/>
            <a:ext cx="39621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ly Expen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ers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ts Of Wa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066680" y="4938840"/>
            <a:ext cx="1919520" cy="19191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676520" y="1447920"/>
            <a:ext cx="233676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Direct Mail, Coupons, Fly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876560" y="1828800"/>
            <a:ext cx="33526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Eff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Auto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Inexpe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3557520" cy="23878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066680" y="4938840"/>
            <a:ext cx="1919520" cy="1919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200400" y="525780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pon books are SO crowd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What’s New That Work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2388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cret is just becoming kn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 4 BILLION use the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lf the world’s population owns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 TIMES more subscribers to these than to the interne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066680" y="4938840"/>
            <a:ext cx="1919520" cy="19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It Gives Your Restauran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76720" y="1828800"/>
            <a:ext cx="50292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able Mark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R.O.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reme Effectiv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reme Speed Of Cont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Afford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Satur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066680" y="4938840"/>
            <a:ext cx="1919520" cy="19191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143000" y="2057400"/>
            <a:ext cx="19605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0000"/>
                </a:solidFill>
                <a:uFillTx/>
                <a:latin typeface="Arial"/>
              </a:rPr>
              <a:t>This</a:t>
            </a: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 Changes Everythin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066680" y="4938840"/>
            <a:ext cx="1919520" cy="19191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276720" y="2057400"/>
            <a:ext cx="4876560" cy="24843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1295280" y="1905120"/>
            <a:ext cx="1465560" cy="28191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200400" y="5181480"/>
            <a:ext cx="5486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cc0000"/>
                </a:solidFill>
                <a:uFillTx/>
                <a:latin typeface="Arial"/>
              </a:rPr>
              <a:t>Perfect For Restaur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30T21:33:38Z</dcterms:created>
  <dc:creator>Bruce Ruby</dc:creator>
  <dc:description/>
  <dc:language>en-US</dc:language>
  <cp:lastModifiedBy>Bruce Ruby</cp:lastModifiedBy>
  <dcterms:modified xsi:type="dcterms:W3CDTF">2012-05-09T22:16:29Z</dcterms:modified>
  <cp:revision>74</cp:revision>
  <dc:subject/>
  <dc:title>Slide 1</dc:title>
</cp:coreProperties>
</file>